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89DE-44DA-4016-BC2B-AC9925C0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E03C-8B3F-45CD-B7B5-ED5EA3F2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5706-300C-4FE2-B632-A5D7B9B0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02A6-8C3B-451E-8E5C-892078FD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55C2-D3A3-4C95-8000-99AF2077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56A2-6E07-468E-A833-635263FF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DB0A-2BB0-4DEB-878B-EEDF61F6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16EC-CBE0-45BA-89B8-E7F0BC20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CFA9-F445-432F-A9CE-7241FDD5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7121-BB6A-4CA3-84F7-9892995F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0B6C-4EAE-4E68-8B77-38BCFCEB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0338-9406-48D7-8618-06A79369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762E-D1B6-4A16-B746-14DB9DB6B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Health and Wel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"/>
          <p:cNvSpPr/>
          <p:nvPr/>
        </p:nvSpPr>
        <p:spPr>
          <a:xfrm>
            <a:off x="2362320" y="1676520"/>
            <a:ext cx="4343400" cy="426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5"/>
          <p:cNvSpPr/>
          <p:nvPr/>
        </p:nvSpPr>
        <p:spPr>
          <a:xfrm>
            <a:off x="3809880" y="3200400"/>
            <a:ext cx="144792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 flipV="1">
            <a:off x="4495680" y="16761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 flipH="1">
            <a:off x="2361960" y="38098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>
            <a:off x="5257800" y="3809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"/>
          <p:cNvSpPr/>
          <p:nvPr/>
        </p:nvSpPr>
        <p:spPr>
          <a:xfrm>
            <a:off x="4572000" y="44197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962520" y="335268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Social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 flipH="1" flipV="1">
            <a:off x="304560" y="2971440"/>
            <a:ext cx="2057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 flipH="1" flipV="1">
            <a:off x="761760" y="1828800"/>
            <a:ext cx="1981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3"/>
          <p:cNvSpPr/>
          <p:nvPr/>
        </p:nvSpPr>
        <p:spPr>
          <a:xfrm flipH="1" flipV="1">
            <a:off x="1371240" y="914040"/>
            <a:ext cx="19810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4"/>
          <p:cNvSpPr/>
          <p:nvPr/>
        </p:nvSpPr>
        <p:spPr>
          <a:xfrm flipV="1">
            <a:off x="5334120" y="1066320"/>
            <a:ext cx="2286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 flipV="1">
            <a:off x="6248520" y="1904760"/>
            <a:ext cx="2514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6"/>
          <p:cNvSpPr/>
          <p:nvPr/>
        </p:nvSpPr>
        <p:spPr>
          <a:xfrm flipV="1">
            <a:off x="6705720" y="2895480"/>
            <a:ext cx="21333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7"/>
          <p:cNvSpPr/>
          <p:nvPr/>
        </p:nvSpPr>
        <p:spPr>
          <a:xfrm flipH="1">
            <a:off x="304920" y="4495680"/>
            <a:ext cx="21333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9"/>
          <p:cNvSpPr/>
          <p:nvPr/>
        </p:nvSpPr>
        <p:spPr>
          <a:xfrm flipH="1">
            <a:off x="456840" y="518148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0"/>
          <p:cNvSpPr/>
          <p:nvPr/>
        </p:nvSpPr>
        <p:spPr>
          <a:xfrm flipH="1">
            <a:off x="1294920" y="5638680"/>
            <a:ext cx="2133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1"/>
          <p:cNvSpPr/>
          <p:nvPr/>
        </p:nvSpPr>
        <p:spPr>
          <a:xfrm>
            <a:off x="6705720" y="4343400"/>
            <a:ext cx="2133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2"/>
          <p:cNvSpPr/>
          <p:nvPr/>
        </p:nvSpPr>
        <p:spPr>
          <a:xfrm>
            <a:off x="6248520" y="5105520"/>
            <a:ext cx="21333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3"/>
          <p:cNvSpPr/>
          <p:nvPr/>
        </p:nvSpPr>
        <p:spPr>
          <a:xfrm>
            <a:off x="5562720" y="5715000"/>
            <a:ext cx="19047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s for Maintaining Healthy Relationships to Care for your Social Heal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ing a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r health triangle is _____________, you have a high degree of 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ealth Continu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continu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health can be measured on a sliding sca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685800" y="2666880"/>
            <a:ext cx="7696080" cy="2057400"/>
          </a:xfrm>
          <a:prstGeom prst="leftRightArrow">
            <a:avLst>
              <a:gd name="adj1" fmla="val 50000"/>
              <a:gd name="adj2" fmla="val 744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57200" y="2362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mature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629400" y="22860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Level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 Ti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partner, create a health continuum that has behaviors that would lead to premature death or a high level of health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at least 10 behaviors 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he behavior falls in the correct spot on the continuum based on the health risk of the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nic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word Heal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steps to promote physical heal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health continuum?  What are the end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Vocabul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/Emotional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nic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er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Health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rtant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Health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2819520" y="2133720"/>
            <a:ext cx="3504960" cy="31240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4572000" y="2209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 flipH="1">
            <a:off x="2819520" y="4114800"/>
            <a:ext cx="17524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4572000" y="4114800"/>
            <a:ext cx="17524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295280" y="54100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Health Triangle is made up of: _____________________________________________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Tips for Physical Heal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tal/ Emotional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reflec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tal/ Emotional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Characteristics of Mentally and Emotionally Healthy Peo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13:50:24Z</dcterms:created>
  <dc:creator>sroberts</dc:creator>
  <dc:description/>
  <dc:language>en-US</dc:language>
  <cp:lastModifiedBy>sroberts</cp:lastModifiedBy>
  <dcterms:modified xsi:type="dcterms:W3CDTF">2011-09-08T17:50:36Z</dcterms:modified>
  <cp:revision>9</cp:revision>
  <dc:subject/>
  <dc:title>Chapter One</dc:title>
</cp:coreProperties>
</file>